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6BA-FEB7-490A-8CB6-3CDFE1D0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1AB-1A0A-494A-9A75-3BB9B331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426-4152-4273-B492-6067CE6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C6-9251-4B05-8A79-5C345A83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901-D087-4D08-86A3-4B32FAE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D48-C6CE-4636-A7F4-0F2543A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36E-82E3-48A2-AC7C-08BB810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097-A705-40C4-8489-360F4AA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534-E075-4189-859B-68528601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8A5-D873-44D4-89E2-C2E02C7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FB3-D96B-49DF-A9CA-BD70243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102-6212-4A08-97EB-50FD85A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0B1F-2120-41BF-82DE-131FB8F6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5638680" cy="501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657800" y="2724120"/>
            <a:ext cx="6248520" cy="125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ooler Than You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5627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07.8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climates of coastal and inland areas at similar latitudes to demonstrate the ocean’s impact on weather and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do you think effect temperature in different cit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term landlocked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term coastal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28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think a landlocked city and a coastal city with similar latitudes would have the same average temperature each mont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0:12:13Z</dcterms:created>
  <dc:creator>Bones</dc:creator>
  <dc:description/>
  <dc:language>en-US</dc:language>
  <cp:lastModifiedBy>Dekalb County School</cp:lastModifiedBy>
  <dcterms:modified xsi:type="dcterms:W3CDTF">2011-11-24T04:24:11Z</dcterms:modified>
  <cp:revision>2</cp:revision>
  <dc:subject/>
  <dc:title>Slide 1</dc:title>
</cp:coreProperties>
</file>